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0DBC31-5A41-4F3F-A7EE-930330F2BE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C0B9D-51C7-40D9-A339-1186F140EE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C42BB0-320D-46B7-B6F1-6464C03437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E3EAAF-2252-40BB-9D31-181AB0E8F4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9CC9D3-75FF-458D-A214-C2E08647FB3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1B35B6-9192-4BF3-B1CB-51F2687E20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E83934-5CB6-4F0E-B969-B37231578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3E4975-B7D1-480C-9145-7D97F7F149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DEB960-324F-4E9A-B1EB-F86781AFFD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CFF8CF-C4D1-40EB-BA78-7FB46C0DAC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16313-966E-40BC-B27C-4BFD037D32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90496E-C215-45A1-9CCC-57C5D8A6DC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941724-64B2-440B-98AD-681D1733F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16EF89-377D-47E6-8982-5EF79A1314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659A-7A28-4586-919D-464EF8052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27C14F-2B84-40F4-A22A-D56D858C06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A961BD-F153-4AE2-8B97-BF61CF2DB7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DF9AA9-94B2-4C03-A6F9-0F2B230CD0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185D60-04E5-4EF3-B5C3-8AB8C189FD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0504FF-A064-4210-9318-CD5705C33D8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8CF4A0-F8AD-4572-A2DB-EDE3359EA1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7F9B81-C762-4F68-BF76-02058E08FF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649511-7451-410D-8211-0D9C88D33A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6626F1-F715-4544-8523-8DC4D7B6FC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7C00E-DD16-4CDE-A36B-4C41227125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7ED5D5-47A1-434D-8E74-11E814DAD2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203506-3D62-4219-BF3D-78D3EF05D8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0A4F15-14A2-41B0-9798-D3E10451E1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F114D97-07A7-4F46-97B3-BA0C1AB41B5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0EDB0CC-7D53-4C27-9E11-3860E42265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70C09AC-C611-4668-BA1A-384921B8A4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3F46CD9-EA29-482B-B962-DA744CD3A6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E6CA15-94E9-46C5-9FF9-D247195C5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ED0E0-807E-4B51-BB80-C3252F25D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891E8C-AB36-4DD4-AC1E-B9FDA4637B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5AAD33-A1C8-4681-A03A-E145D5828E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1C5FD7F-F84A-42B4-9B50-A2B00AA73C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0586AF-FFAA-4F96-9D7D-38D8598870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EB2FF-C1C8-4D75-BFA4-3335204DB6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D7686E-C226-4287-AC6D-2D792DFCE0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CD7553-75B6-4B0A-BD9D-F063B27269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F44E1A-5940-4D99-894C-0A5B7618ED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F4D7FB-D037-47A6-A034-7CC84C44C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9B8A42D-373D-45C9-8953-E1BBA9F8FB8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C9980C-98BC-4D89-B371-4AD620767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B62492-CA9B-4A43-9561-B43888E1E4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54A96E9-D3E3-49D0-9CB4-6D7F4515CE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AE2F4C-36CE-4EB3-A3CE-75D10912FD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B61647E-1D10-4B59-9DBF-45F25D3289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799141-FF9C-41E6-BB4D-C5F1CD1C47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842E96-280B-41E7-9B10-3660544D78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8E29A5-35CC-4D73-91BC-7230AC11DE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B1747A-3E09-4BB1-9DBC-EA78FF3685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BE725F-7D86-45FF-AEE8-32EF1B5C27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528C7D-52FD-4BC7-AF46-0A63D8ACFB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43E53-265C-422D-8177-3D1846A7A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4C110FD-24AD-45EF-BF32-78F01FE387B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265A08-D86B-4421-9D0F-671B2366F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4C1CD-04F2-4BBE-9DAB-4BF50B7A5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4FD72B-D61F-42ED-9EF0-4CB0A42B7F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8 Rectángulo"/>
          <p:cNvGrpSpPr/>
          <p:nvPr/>
        </p:nvGrpSpPr>
        <p:grpSpPr>
          <a:xfrm>
            <a:off x="8150400" y="-6480"/>
            <a:ext cx="1000080" cy="6870960"/>
            <a:chOff x="8150400" y="-6480"/>
            <a:chExt cx="1000080" cy="6870960"/>
          </a:xfrm>
        </p:grpSpPr>
        <p:pic>
          <p:nvPicPr>
            <p:cNvPr id="1" name="8 Rectángulo"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6E432-5671-4C4C-8762-A6328924FB77}"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7 Rectángulo"/>
          <p:cNvGrpSpPr/>
          <p:nvPr/>
        </p:nvGrpSpPr>
        <p:grpSpPr>
          <a:xfrm>
            <a:off x="2664000" y="-6480"/>
            <a:ext cx="6486480" cy="6870960"/>
            <a:chOff x="2664000" y="-6480"/>
            <a:chExt cx="6486480" cy="6870960"/>
          </a:xfrm>
        </p:grpSpPr>
        <p:pic>
          <p:nvPicPr>
            <p:cNvPr id="45" name="7 Rectángulo"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47" name="9 Conector recto"/>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52812A-BBC6-4410-AC6D-C5FDA6662F18}" type="slidenum">
              <a:rPr b="0" lang="es-E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8 Rectángulo"/>
          <p:cNvGrpSpPr/>
          <p:nvPr/>
        </p:nvGrpSpPr>
        <p:grpSpPr>
          <a:xfrm>
            <a:off x="8150400" y="-6480"/>
            <a:ext cx="1000080" cy="6870960"/>
            <a:chOff x="8150400" y="-6480"/>
            <a:chExt cx="1000080" cy="6870960"/>
          </a:xfrm>
        </p:grpSpPr>
        <p:pic>
          <p:nvPicPr>
            <p:cNvPr id="90" name="8 Rectángulo"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0716-23CF-486A-A2C6-1F52C8E4A32A}"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7 Rectángulo"/>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4" name="9 Rectángulo"/>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3DE92-48E8-4817-AAB9-921EB54D2EF5}" type="slidenum">
              <a:rPr b="0" lang="es-E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8 Rectángulo"/>
          <p:cNvGrpSpPr/>
          <p:nvPr/>
        </p:nvGrpSpPr>
        <p:grpSpPr>
          <a:xfrm>
            <a:off x="8150400" y="-6480"/>
            <a:ext cx="1000080" cy="6870960"/>
            <a:chOff x="8150400" y="-6480"/>
            <a:chExt cx="1000080" cy="6870960"/>
          </a:xfrm>
        </p:grpSpPr>
        <p:pic>
          <p:nvPicPr>
            <p:cNvPr id="177" name="8 Rectángulo"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b13f9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b13f9a"/>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100" spc="-1" strike="noStrike">
                <a:solidFill>
                  <a:srgbClr val="b13f9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61882-2A7E-4A28-AD1B-52FCDC41C69F}" type="slidenum">
              <a:rPr b="0" lang="es-ES" sz="1100" spc="-1" strike="noStrike">
                <a:solidFill>
                  <a:srgbClr val="b13f9a"/>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1 Título" descr=""/>
          <p:cNvPicPr/>
          <p:nvPr/>
        </p:nvPicPr>
        <p:blipFill>
          <a:blip r:embed="rId1"/>
          <a:stretch/>
        </p:blipFill>
        <p:spPr>
          <a:xfrm>
            <a:off x="3359160" y="530280"/>
            <a:ext cx="5546880" cy="2878200"/>
          </a:xfrm>
          <a:prstGeom prst="rect">
            <a:avLst/>
          </a:prstGeom>
          <a:ln w="0">
            <a:noFill/>
          </a:ln>
        </p:spPr>
      </p:pic>
      <p:sp>
        <p:nvSpPr>
          <p:cNvPr id="221" name="PlaceHolder 1"/>
          <p:cNvSpPr>
            <a:spLocks noGrp="1"/>
          </p:cNvSpPr>
          <p:nvPr>
            <p:ph type="subTitle"/>
          </p:nvPr>
        </p:nvSpPr>
        <p:spPr>
          <a:xfrm>
            <a:off x="3354480" y="3540240"/>
            <a:ext cx="5114880" cy="1101600"/>
          </a:xfrm>
          <a:prstGeom prst="rect">
            <a:avLst/>
          </a:prstGeom>
          <a:noFill/>
          <a:ln w="0">
            <a:noFill/>
          </a:ln>
        </p:spPr>
        <p:txBody>
          <a:bodyPr lIns="45720" rIns="45720" tIns="0" bIns="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GRUPO NO. 05</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NUMEROS:</a:t>
            </a:r>
            <a:endParaRPr b="0" lang="en-US" sz="2200" spc="-1" strike="noStrike">
              <a:solidFill>
                <a:srgbClr val="000000"/>
              </a:solidFill>
              <a:latin typeface="Trebuchet MS"/>
            </a:endParaRPr>
          </a:p>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Trebuchet MS"/>
              </a:rPr>
              <a:t>04, 17, 30, 31</a:t>
            </a:r>
            <a:endParaRPr b="0" lang="en-US" sz="2200" spc="-1" strike="noStrike">
              <a:solidFill>
                <a:srgbClr val="000000"/>
              </a:solidFill>
              <a:latin typeface="Trebuchet MS"/>
            </a:endParaRPr>
          </a:p>
        </p:txBody>
      </p:sp>
      <p:pic>
        <p:nvPicPr>
          <p:cNvPr id="222" name="Picture 2" descr=""/>
          <p:cNvPicPr/>
          <p:nvPr/>
        </p:nvPicPr>
        <p:blipFill>
          <a:blip r:embed="rId2"/>
          <a:stretch/>
        </p:blipFill>
        <p:spPr>
          <a:xfrm>
            <a:off x="291960" y="-12600"/>
            <a:ext cx="2487600" cy="318276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1 Título" descr=""/>
          <p:cNvPicPr/>
          <p:nvPr/>
        </p:nvPicPr>
        <p:blipFill>
          <a:blip r:embed="rId1"/>
          <a:stretch/>
        </p:blipFill>
        <p:spPr>
          <a:xfrm>
            <a:off x="212760" y="317520"/>
            <a:ext cx="7493040" cy="1150920"/>
          </a:xfrm>
          <a:prstGeom prst="rect">
            <a:avLst/>
          </a:prstGeom>
          <a:ln w="0">
            <a:noFill/>
          </a:ln>
        </p:spPr>
      </p:pic>
      <p:sp>
        <p:nvSpPr>
          <p:cNvPr id="224"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nuel Aurelio Tavárez Justo (1931- 1963) fue un dirigente político y revolucionario nacido en Monte Cristi, el día 2 de enero de 1931. Obtuvo el título de Dr. en Derecho en la Universidad de Santo Domingo. Allí conoció a Minerva Mirabal, luchadora antitrujillista, con quien contrajo matrimonio en 1955. Ambos se unieron en la lucha contra el régimen, y entre 1959 y 1960 organizaron el Movimiento Revolucionario 14 de Junio o 1J4, con el objetivo de liberar al pueblo dominicano de la dictadura, instaurada en el año de 1930 por Rafael Leonidas Trujillo Molina.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Iniciada la lucha clandestina, el movimiento fue infiltrado y delatado. Manolo y cientos de hombres y mujeres que integraban el movimiento clandestino 14 de Junio fueron encarcelados torturados y acecinados por la dictadura. Encontrándose en la cárcel, su esposa Minerva Mirabal fue asesinada, junto a sus hermanas Patria y María Teresa, por órdenes de Trujillo en noviembre de 1960.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Manolo Tavárez fue excarcelado el 26 de julio de 1961, casi dos meses después que fuera asesinado Trujillo, e inmediatamente comenzó los trabajos para constituir formal y públicamente la Movimientio Revolucionario 14 de Junio, siendo designado el 30 de julio de 1961 como Presidente de la organización.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El 20 de diciembre de 1962, culminada la tiranía de Rafael Leonidas Trujillo Molina, se celebraron las primeras elecciones libres y democráticas, resultando electo el Prof. Juan Bosch como Presidente de la República, quien fue derrocado el 25 de Septiembre de 1963. </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rebuchet MS"/>
              </a:rPr>
              <a:t>Luego del derrocamiento del presidente Juan Bosch, Manolo Tavárez, dirigió un levantamiento guerrillero, que incursionó en las montañas el día 28 de noviembre de 1963, como respuesta al golpe de estado militar perpetrado contra el primer presidente elegido democráticamente luego de la dictadura trujillista. El 21 de diciembre de 1963 murió asesinado en Manaclas. Los voceros del gobierno declararon que murió en combate, pero tanto sobrevivientes de la lucha, como familiares de Tavares Justo, aseguran que fue fusilado después que se entrego a miembros de ejército.</a:t>
            </a:r>
            <a:endParaRPr b="0" lang="en-US" sz="1000" spc="-1" strike="noStrike">
              <a:solidFill>
                <a:srgbClr val="000000"/>
              </a:solidFill>
              <a:latin typeface="Trebuchet MS"/>
            </a:endParaRPr>
          </a:p>
          <a:p>
            <a:pPr marL="272880" indent="-272880" algn="just">
              <a:lnSpc>
                <a:spcPct val="80000"/>
              </a:lnSpc>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5" name="1 Título" descr=""/>
          <p:cNvPicPr/>
          <p:nvPr/>
        </p:nvPicPr>
        <p:blipFill>
          <a:blip r:embed="rId1"/>
          <a:stretch/>
        </p:blipFill>
        <p:spPr>
          <a:xfrm>
            <a:off x="212760" y="317520"/>
            <a:ext cx="7493040" cy="1150920"/>
          </a:xfrm>
          <a:prstGeom prst="rect">
            <a:avLst/>
          </a:prstGeom>
          <a:ln w="0">
            <a:noFill/>
          </a:ln>
        </p:spPr>
      </p:pic>
      <p:sp>
        <p:nvSpPr>
          <p:cNvPr id="226"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Graduado de Bachiller en Filosofía y Letras en la Escuela Normal de Varones. Años más tarde obtiene el título de Doctor en Derecho en la Universidad Autónoma de Santo Domingo.</a:t>
            </a: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stando en prisión junto a sus compañeros del Movimiento 14 de Junio, su esposa Minerva y sus hermanas Patria y María Teresa fueron salvajemente asesinadas por agentes del Servicio de Inteligencia Militar. El trágico fin de las Hermanas Mirabal, los múltiples suplicios sufridos por los catorcistas en las cárceles trujillistas y el carisma personal de Manolo y varios de sus dirigentes, hacían del 14 de junio la organización política de mayor prestigio y de mayor atractivo para la juventud dominicana de ese moment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1 Título" descr=""/>
          <p:cNvPicPr/>
          <p:nvPr/>
        </p:nvPicPr>
        <p:blipFill>
          <a:blip r:embed="rId1"/>
          <a:stretch/>
        </p:blipFill>
        <p:spPr>
          <a:xfrm>
            <a:off x="244440" y="291960"/>
            <a:ext cx="7461360" cy="1176480"/>
          </a:xfrm>
          <a:prstGeom prst="rect">
            <a:avLst/>
          </a:prstGeom>
          <a:ln w="0">
            <a:noFill/>
          </a:ln>
        </p:spPr>
      </p:pic>
      <p:sp>
        <p:nvSpPr>
          <p:cNvPr id="228"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rebuchet MS"/>
              </a:rPr>
              <a:t>Encontrándose prisionero en la Cárcel de Puerto Plata en 1960, su esposa Minerva Mirabal fue asesinada, junto a otras dos hermanas por miembros de los Servicio de Inteligencia Militar (SIM), cuando venian de visitarle a la cárcel. Al finalizar la dictadura, con la muerte de Rafael L. Trujillo en 1961, Manuel Tavares Justo fue excarcelado, procediendo de inmediato a dirigir la lucha contra los remanentes de la tiranía y a reorganizar su agrupación política, la que convirtió en el Movimiento Revolucionario 14 de Junio.</a:t>
            </a:r>
            <a:endParaRPr b="0" lang="en-US" sz="1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1 Título" descr=""/>
          <p:cNvPicPr/>
          <p:nvPr/>
        </p:nvPicPr>
        <p:blipFill>
          <a:blip r:embed="rId1"/>
          <a:stretch/>
        </p:blipFill>
        <p:spPr>
          <a:xfrm>
            <a:off x="212760" y="317520"/>
            <a:ext cx="7493040" cy="1150920"/>
          </a:xfrm>
          <a:prstGeom prst="rect">
            <a:avLst/>
          </a:prstGeom>
          <a:ln w="0">
            <a:noFill/>
          </a:ln>
        </p:spPr>
      </p:pic>
      <p:sp>
        <p:nvSpPr>
          <p:cNvPr id="230" name=""/>
          <p:cNvSpPr txBox="1"/>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rebuchet MS"/>
              </a:rPr>
              <a:t>El 21 de noviembre de 1963, él y la Agrupación política 14 de junio se levantan en armas en las montañas dominicanas en guerra abierta contra el triunvirato. El 21 de diciembre Manuel Aurelio Tavarez Justo es fusilado en la sección Las Manaclas San José de las Matas en la cordillera central. Muchos afirman que él y varios de los demás fueron ejecutados después de negociar su entrega al ejército.</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9T23:59:12Z</dcterms:created>
  <dc:creator>Admin</dc:creator>
  <dc:description/>
  <dc:language>en-US</dc:language>
  <cp:lastModifiedBy>Admin</cp:lastModifiedBy>
  <dcterms:modified xsi:type="dcterms:W3CDTF">2011-04-10T00:07:27Z</dcterms:modified>
  <cp:revision>1</cp:revision>
  <dc:subject/>
  <dc:title>Biografia de manuel aurelio tavarez justo</dc:title>
</cp:coreProperties>
</file>